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BFF0-4174-4DCF-B3B6-AA02AEE02C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CC9E-3A05-42E3-A4BE-7EBA4AD36F3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32C3-133D-401B-A1E0-DDF63923A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7086-4B37-4EC6-B277-D4EC54F199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AE259-EE49-45C5-937F-1F1EDC42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6B11B-3571-483B-97AF-C7701A13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41822-5F1B-4C7F-A1DA-D783484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8A013-990F-4B47-B6E5-139BCA7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00778-4DC1-4E6A-A975-A45C78A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27001-161A-4CE9-B038-B0D92FA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2A24D-549C-4987-8578-1C4F985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0AA0E-DB0A-4585-87B5-D9B51AF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5B3ED-E1BA-47C3-AB96-CAFC56B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B8803-5A86-4E91-8472-C9A7D36D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41BB-7DEB-42BA-9098-70B17A6F4E5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C0609-82C0-4AFE-925F-C1EB5B53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3E10D-6EF8-4909-A884-45EC8CC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B01F5-50F8-48E0-BFC9-9C5BEA6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91182-EEA6-423C-A59C-4CADEEB4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2FF45-3781-4C59-842D-6CD4AE49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AD507-386A-4606-8875-387C0DC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23B9F-1450-4D98-A931-260C88B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8DBFA-8DFE-49F2-91DD-887A021A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A03BD-027D-422C-A03C-672734A7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B75EA-509A-43B5-924E-CAA1FF66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6A60-F575-44E7-84D9-00468ED547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A9169-7605-491F-8C2F-D168FA8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A6128-732B-4A17-B902-7DE37A19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9557F-0789-4D36-9DAE-93FBE997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009808-32DB-4D9B-BA41-ED2E9A5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B0CF94-2870-4BFA-81D3-552BEB54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9F940-0B0B-417D-BF66-EAC0B20D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AF5B5B-57B9-4FC3-956E-A25DA30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143DE-5116-475A-806A-17C97AC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B7AF7-4E00-4762-A2F1-292B441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8E59A-9617-4D17-9BA7-00E98856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B214-D3FF-495B-B9A7-2EDBF57DAD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47FF4-CF98-48AE-A942-B9498363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34747-BD75-43D6-9D87-6A06158D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FB91B9-B9FE-454C-8391-F200DB65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802472-EB80-4387-8962-90CE741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564B0-E577-4975-82B0-2E2FEAFE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89F78-DB9E-4D95-AF96-89ADAA9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2952C-0A64-456F-95D2-D925F07C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1748D8-02B0-4488-B0B4-86D4AB2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7B3E7A-E60D-4EF3-90AB-2DCCA1C3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790D3A-18E6-4049-B252-C84981F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F0BB-2781-4CDF-A6AB-9E964997E9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BB8C21-1CBE-4ED4-BC58-9CE8EBE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81F187-AFAA-4583-956D-5B2EBB3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6BF25-817B-4EE8-81B4-95D8EC8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3AD51A-D8E7-4AC8-9FCA-213A36BE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D7C08-7800-4438-827A-49F579C0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8B6BF-2E9F-4148-949C-4AED460A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6CE59-217A-4766-96AC-10626CD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C7FFEC-7798-491F-A426-FE0A2604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200F69-BB4F-4C4E-B5C3-2770E52B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14B03B-91DA-4834-803C-6D5BEEE1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D61E-7164-4084-AD13-CCE479EEC9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CF64E8-297A-4969-8199-2289CF39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FFFB8C-F6D7-44D8-B124-945C469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DAD5E7-A29D-4D78-9741-E7222D5A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3681C-8402-44B5-B9E6-59218C6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1904FE-E95D-40DB-AFAA-F25CC19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B01E65-2880-4FE7-9176-0CFD4888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7B88A-8719-4F8E-B84B-56F52A6E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D35D6E-50F3-44DC-82A7-C7DFF0AE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5E2A77-AB94-415B-B3A6-EEFD0DD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AB9088-596C-4C5F-A3F0-6C72CC40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FAF3-F332-4FD9-9297-1048C6EFA70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8B9877-2250-492B-B921-5F2C8E5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F5BC53-FFD3-423E-BB66-BCCC078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C7443-566B-4717-A535-77C709AB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AF15FD-710C-4A4B-BC07-2B9EA35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1FF2F5-986B-4267-9A47-E75130E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E37A74-F4F8-448D-B3C0-44BCA76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76043F-2C3B-4463-A2EB-0056BBB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7322E5-73D5-450B-BEE2-9C2AF6FA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26995A-752A-43A5-95AC-044F0D6D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544C-5D43-4559-A0B1-4F04200A94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FCCD-9D50-4E1B-8E6E-9212BDF5F9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805E-BA54-40CB-A2DD-3599DF247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26E5-8B27-45EE-8434-5773567C5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C39D-A219-4CDD-9A18-576ECB2C26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7D7E-82AF-4D8B-9A3F-7AE29936B9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630C-6583-4822-973E-2262957DF0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C63F-8BE2-4A8E-BBE9-F994C037C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95C4-88E0-4E6C-8EDE-F62CBD414A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BB99-D648-488C-AE19-E5B94FFC32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51BB-6056-4BC6-89A6-98D2FD5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F910C-572E-4A78-A9B7-076F56C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3CC5C-56B8-40EF-99B8-3C757329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427D-9555-4B17-BD6E-E8A0C7A144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3360-C218-485A-9C90-74EFFA0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2FF00-C606-473D-AAED-CE290761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1A2C2-9F05-4D15-81C7-C98FD8B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958C-227B-41BC-8DF7-E1A7AEC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EDBE-5021-46E9-AFE3-35AEE88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2AB17-EA2E-4029-B65A-35F1392C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DEBE2-7357-4B38-8FA1-E7C9186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244E9-89E3-472C-9FB2-2E4FFA42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E2044-DFAF-4B9A-A342-D623A9EE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52B21-8B8E-4AF7-B01C-453FAF93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97CF-1B18-4D39-B643-050BED4FA5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CF0E0-BFF9-4C9C-80D0-261B5EC5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25D2D-C3B5-4D18-80A8-2A3C4B7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F463F-7853-4FD4-BA78-4BB1B57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371E2-CC47-4F24-8FBB-D4E6283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70E6E-4F2D-4C31-8E96-CF7D61C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E7BC7-B09D-48DF-A10F-FB33BF4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50330-CA6C-43F8-AB96-1FD06BC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8F3A3-51AE-4514-8568-5DBF56E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91CB6-440F-4FF8-8B56-0FA7EE6F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8E12B-A659-48C7-8414-09418F35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DF6B-5426-4EA7-8095-E496D8B284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E230D-9776-4005-B9B5-8573149B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AEB8B-AE55-4063-AB43-DCC60FAC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D39BC-8DFA-4113-AD80-3BA610E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2F378-FE7F-445A-93F5-9E87CE63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E63A9-5F1E-4EC5-BF3B-471F52B1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352AA-EB09-4B8F-A724-74543B1F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AE346-629D-4C54-960E-7712A4E4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D3716-3C53-498F-A753-9B99820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4526F-E69E-49F7-8EC7-36805AC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6F5EC-8B5C-463F-B277-D058490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C663-DA87-4B07-B808-E41E962365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ED2E2-4D86-4826-8C3F-8944DF29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AB50E-3025-440C-AD18-1EEDB22D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F5B62-10BC-4DAD-9738-45A8CF13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87548-1BC0-42C4-B8E5-BD3D8BD7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5B8FD-7F9E-4C58-AD43-0790B34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F67D0-8B8E-4A13-A110-C6BEC989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E010C-FAB0-45B1-B589-985B393D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C1DB0-CE11-46BA-8B82-E9D778BA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CAFE9-BA66-4C25-BB55-D43656C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B1C20-AF82-4F95-BADD-4A94EA43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453C-15C6-4D41-9E1B-CC3EE8A9112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17A02-EF75-4487-88FF-F2EDCCAE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4F68A-1D83-49E6-A19E-D2F11DB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02C8E-3FEF-4298-A981-3D329D66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E53FD-B3F5-4D07-BB63-51E8DC96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FA94B-4C93-44E3-A017-2BB8F137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473C8-8DE6-4D95-B1D3-699A4F5D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DE52B-8F77-4C09-887C-8D24609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087C7-BE62-4EEC-A0A8-CDB89A4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8C3AF-4D4F-4BF3-8E98-3E9A7CB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6A86F-9C36-4836-BA70-69C12A9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577D-8ABF-4D3C-8418-E726F61327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090F1-5454-42DE-AFDC-6ADE0EB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EB954-8B8B-4A86-A712-8DEE216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E1809-E090-4BEB-9C35-46BF6B0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D3541-CDB6-4C55-8DC2-D299391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EA6FA-8BB7-4369-AA43-A49EF4F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CC7A5-52A1-4FD5-96F0-CC7D72DB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94970-A112-4C52-877F-864D1F1B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BC465-FC95-4566-995E-C77B6A16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D7A2A-D9C0-405D-9636-149C8AC7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A94F2-455D-49C2-AD3C-372C9FB1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B619-A036-4BEA-BD63-5AB11E19DCE2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9DB-522E-4B36-8E83-87207F938F5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19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BD35-3E56-4437-91AB-078689D2EB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1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2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pic>
        <p:nvPicPr>
          <p:cNvPr id="463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2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574C-E885-4E93-8266-01B1D490A19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3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B8C-FC32-4104-BEF3-9099F06215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4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49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E0C-104F-43F5-819B-F7F1AF5024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FE30-3AEE-4A25-933F-6BE11D9C01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1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8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6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C8E-37B8-4288-8241-D9AF9C9523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5BAA-EA46-4338-8954-E195E0F7244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09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9F7-F6B6-47D9-88C1-EC2C97FF7A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1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12E6-F8C1-4CE7-96AD-F35C6B3B97B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3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1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E5BC-2CAA-4915-8198-BE6B644073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D56B-473D-4B9E-9BBA-FE52347AEF5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598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Resultado Trimes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HelveticaNeue Condensed"/>
              </a:rPr>
              <a:t>Projeto Piloto Teletrabalho do Ressar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iretoria de Desenvolvimento Se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ítulo 1"/>
          <p:cNvSpPr/>
          <p:nvPr/>
        </p:nvSpPr>
        <p:spPr>
          <a:xfrm>
            <a:off x="1933560" y="479736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Neue Condensed"/>
              </a:rPr>
              <a:t>Gerência Executiva de Integração e Ressarcimento ao SUS – GE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io de Janeiro/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Experiência Pil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Diagrama 3" descr=""/>
          <p:cNvPicPr/>
          <p:nvPr/>
        </p:nvPicPr>
        <p:blipFill>
          <a:blip r:embed="rId1"/>
          <a:stretch/>
        </p:blipFill>
        <p:spPr>
          <a:xfrm>
            <a:off x="476280" y="1414440"/>
            <a:ext cx="79977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99"/>
                </a:solidFill>
                <a:latin typeface="Calibri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Diagrama 1" descr=""/>
          <p:cNvPicPr/>
          <p:nvPr/>
        </p:nvPicPr>
        <p:blipFill>
          <a:blip r:embed="rId1"/>
          <a:stretch/>
        </p:blipFill>
        <p:spPr>
          <a:xfrm>
            <a:off x="23760" y="1042920"/>
            <a:ext cx="91202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71E-97B5-4082-8548-C19A114B5801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dutividade dos Servidores Ef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Gráfico 1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714560" cy="2952720"/>
          </a:xfrm>
          <a:prstGeom prst="rect">
            <a:avLst/>
          </a:prstGeom>
          <a:ln w="0">
            <a:noFill/>
          </a:ln>
        </p:spPr>
      </p:pic>
      <p:pic>
        <p:nvPicPr>
          <p:cNvPr id="610" name="Gráfico 1" descr=""/>
          <p:cNvPicPr/>
          <p:nvPr/>
        </p:nvPicPr>
        <p:blipFill>
          <a:blip r:embed="rId2"/>
          <a:stretch/>
        </p:blipFill>
        <p:spPr>
          <a:xfrm>
            <a:off x="4356000" y="3429000"/>
            <a:ext cx="434196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"/>
          <p:cNvGraphicFramePr/>
          <p:nvPr/>
        </p:nvGraphicFramePr>
        <p:xfrm>
          <a:off x="5724360" y="1374840"/>
          <a:ext cx="2519640" cy="1482840"/>
        </p:xfrm>
        <a:graphic>
          <a:graphicData uri="http://schemas.openxmlformats.org/drawingml/2006/table">
            <a:tbl>
              <a:tblPr/>
              <a:tblGrid>
                <a:gridCol w="1260720"/>
                <a:gridCol w="12589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ç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2" name="Retângulo 4"/>
          <p:cNvSpPr/>
          <p:nvPr/>
        </p:nvSpPr>
        <p:spPr>
          <a:xfrm>
            <a:off x="338040" y="4535640"/>
            <a:ext cx="370836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Foram também realizados na modalidade do teletrabalho as seguintes atividad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aboração de Notas Técnica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udos e pesquisas sobre os dados da aná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F848-153D-4EBC-9FB5-4893B3F1D69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DUTIVIDADE TOTAL - GE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Gráfico 7" descr=""/>
          <p:cNvPicPr/>
          <p:nvPr/>
        </p:nvPicPr>
        <p:blipFill>
          <a:blip r:embed="rId1"/>
          <a:stretch/>
        </p:blipFill>
        <p:spPr>
          <a:xfrm>
            <a:off x="433440" y="1127160"/>
            <a:ext cx="827712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620E-A28F-4C15-8195-796449AD8CB5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Qualidade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tângulo 1"/>
          <p:cNvSpPr/>
          <p:nvPr/>
        </p:nvSpPr>
        <p:spPr>
          <a:xfrm>
            <a:off x="4643280" y="1989000"/>
            <a:ext cx="4235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teletrabalho melhorou muito a minha qualidade de v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ndo longe da ANS, o tempo de deslocamento, me afetava muito, gerando stress, cansaço, dores na coluna, nas pernas, e tantos outros problemas. Embora ainda continue me deslocando, já não me sinto cansada e venho mais animada, sentindo falta da interação no local de trabalho. Hoje tenho mais tempo para cuidar da minha saúde, cuidar dos meus familiares e de outros afazeres, sem abrir mão da qualidade do trabalho, que se tornou muito mais prazero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a melhoria no meu bem estar acredito também, que esteja se refletindo no trabalho, com maior produtividade, mais pro atividade e até mesmo mais criatividad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dora Maria Lima Gra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tângulo 2"/>
          <p:cNvSpPr/>
          <p:nvPr/>
        </p:nvSpPr>
        <p:spPr>
          <a:xfrm>
            <a:off x="324000" y="1484280"/>
            <a:ext cx="40669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bi melhoras em diversos aspectos da vida pessoal e da vida profiss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quase 4 horas diárias gastas com deslocamento casa/trabalho/casa foram revertidas em horas de sono (maior disposição), prática de natação, possibilidade de acompanhar com mais atenção a vida escolar do meu filho, mais tempo com a família, e, ainda, no bem estar gerado pelo fato de não precisar me expor com tanta frequência à violência de nossa cidade. Isso tudo melhorou minha saúde, bem estar e diminuiu a ansiedade. A sensação é de “desintoxicação” do esgotamento gerado pelo estresse diário da falta e perda de tempo/sensação de insegurança/sedentar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rofissionalmente, o resultado verificado foi de maior produtividade em função de menos distrações e interrupções durante o trabalho em casa. Além disso, o teletrabalho resultou em maior prazer e comprometimento com o trabalho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dora Tatiana 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96" descr=""/>
          <p:cNvPicPr/>
          <p:nvPr/>
        </p:nvPicPr>
        <p:blipFill>
          <a:blip r:embed="rId1"/>
          <a:stretch/>
        </p:blipFill>
        <p:spPr>
          <a:xfrm>
            <a:off x="6443640" y="258840"/>
            <a:ext cx="24004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2E4F-7517-4818-A8E4-AAA65F49187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624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626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28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630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Michelle Mello de Souza Rangel</cp:lastModifiedBy>
  <dcterms:modified xsi:type="dcterms:W3CDTF">2016-06-09T18:26:09Z</dcterms:modified>
  <cp:revision>100</cp:revision>
  <dc:subject/>
  <dc:title>Slide 1</dc:title>
</cp:coreProperties>
</file>